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526-582D-40A2-BDC6-3B6C302B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F59-F90D-44C5-954D-7A285703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0AE-A6D7-45C8-91A1-53AF4FB1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B17-6630-4BF2-99EF-15042BBF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A7A-9716-4D82-B70C-E99AB8D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AAB-5667-4666-AC40-48A8168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533-60FC-43FB-AA2C-BFBB344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F0D-66C0-41E0-AD24-0407C152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58B-FFCD-4EE4-AAC2-6F966CC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86D-D42A-4A95-99F4-2AC87B5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C40-EFF7-44F2-A368-75AB856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31E-5ECC-46E8-BCC0-EB79DBA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572-726A-436C-9D06-F5A7D100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L0" TargetMode="External"/><Relationship Id="rId3" Type="http://schemas.microsoft.com/office/2007/relationships/media" Target="file:///tmp/home/.config/libreoffice/4/user/gallery/L0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L2" TargetMode="External"/><Relationship Id="rId6" Type="http://schemas.microsoft.com/office/2007/relationships/media" Target="file:///tmp/home/.config/libreoffice/4/user/gallery/L2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L3" TargetMode="External"/><Relationship Id="rId9" Type="http://schemas.microsoft.com/office/2007/relationships/media" Target="file:///tmp/home/.config/libreoffice/4/user/gallery/L3" TargetMode="External"/><Relationship Id="rId10" Type="http://schemas.openxmlformats.org/officeDocument/2006/relationships/image" Target="../media/image2.png"/><Relationship Id="rId11" Type="http://schemas.openxmlformats.org/officeDocument/2006/relationships/video" Target="file:///tmp/home/.config/libreoffice/4/user/gallery/L4" TargetMode="External"/><Relationship Id="rId12" Type="http://schemas.microsoft.com/office/2007/relationships/media" Target="file:///tmp/home/.config/libreoffice/4/user/gallery/L4" TargetMode="External"/><Relationship Id="rId13" Type="http://schemas.openxmlformats.org/officeDocument/2006/relationships/image" Target="../media/image2.png"/><Relationship Id="rId14" Type="http://schemas.openxmlformats.org/officeDocument/2006/relationships/video" Target="file:///tmp/home/.config/libreoffice/4/user/gallery/L2" TargetMode="External"/><Relationship Id="rId15" Type="http://schemas.microsoft.com/office/2007/relationships/media" Target="file:///tmp/home/.config/libreoffice/4/user/gallery/L2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824960" cy="498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4267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9051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5812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8580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3818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52578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7"/>
          <a:stretch/>
        </p:blipFill>
        <p:spPr>
          <a:xfrm>
            <a:off x="56386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19:16Z</dcterms:created>
  <dc:creator>candiceaustin</dc:creator>
  <dc:description/>
  <dc:language>en-US</dc:language>
  <cp:lastModifiedBy>392-student</cp:lastModifiedBy>
  <dcterms:modified xsi:type="dcterms:W3CDTF">2009-10-07T14:01:30Z</dcterms:modified>
  <cp:revision>4</cp:revision>
  <dc:subject/>
  <dc:title>Slide 1</dc:title>
</cp:coreProperties>
</file>